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5985-E6E7-4FD2-9C4B-C8679221A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0095-843B-433A-AAAE-A726A546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13CC-2CE3-4F81-96FF-4D36FF46B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E4F6-D870-423E-BC72-90DB457B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9068-F40A-42BB-B195-21518D18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BA8F-663A-48BD-A72F-C68195C3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2F90-2EEE-4ACD-A321-B3483084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4143-14F4-46CC-A468-2F5FBD94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64DB-03A1-408A-AD37-CB19CFC9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B214-568D-47EB-8A7F-AF2B69C9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0910-44CA-4BE3-A474-81536925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BC86-3640-4D88-AB6C-F01505F5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3BCD-54C9-4D56-A8C9-45E4F9BB4EE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Mis documentos\Sin título-1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Mis documentos\Sin título-1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Mis documentos\Sin título-1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Mis documentos\Sin título-1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Mis documentos\Sin título-1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Mis documentos\Sin título-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Mis documentos\Sin título-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Mis documentos\Sin título-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Mis documentos\Sin título-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Mis documentos\Sin título-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Mis documentos\Sin título-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Mis documentos\Sin título-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8T12:27:08Z</dcterms:created>
  <dc:creator>Grupo Editorial</dc:creator>
  <dc:description/>
  <dc:language>en-US</dc:language>
  <cp:lastModifiedBy>TORRES</cp:lastModifiedBy>
  <dcterms:modified xsi:type="dcterms:W3CDTF">2010-12-18T22:01:26Z</dcterms:modified>
  <cp:revision>1</cp:revision>
  <dc:subject/>
  <dc:title>Sin título de diapositiva</dc:title>
</cp:coreProperties>
</file>